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86288"/>
        <c:axId val="74125875"/>
      </c:barChart>
      <c:catAx>
        <c:axId val="56586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25875"/>
        <c:crosses val="autoZero"/>
        <c:auto val="1"/>
        <c:lblAlgn val="ctr"/>
        <c:lblOffset val="100"/>
        <c:noMultiLvlLbl val="0"/>
      </c:catAx>
      <c:valAx>
        <c:axId val="741258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86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A10-1550-48B3-9323-8ACD7CB7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EC9-A4D6-489F-A66B-BD8F2E02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625-D1F6-4011-96A0-0E3FC7F8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E0BE-8DC3-4F9B-97B0-0B672792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9E6-0EF2-4813-9CDB-CFF0EB26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1639-D1E2-4922-AE07-8C7F410C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7049-7A16-4992-A85B-1E582025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F846-4655-49FF-A17A-2F64B051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FC85-EB2F-49A6-8DDF-56762D46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42DF-C025-4E0D-A2B1-54D32D16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761E-B2B0-48A0-BFB3-7AE8CC47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8C9B-2D2B-4EE6-8735-3C6A5F9C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F3F49-F51B-49B9-90D3-D1B68537D8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