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13158"/>
        <c:axId val="79297379"/>
      </c:barChart>
      <c:catAx>
        <c:axId val="19613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7379"/>
        <c:crosses val="autoZero"/>
        <c:auto val="1"/>
        <c:lblAlgn val="ctr"/>
        <c:lblOffset val="100"/>
        <c:noMultiLvlLbl val="0"/>
      </c:catAx>
      <c:valAx>
        <c:axId val="7929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3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E36-04E6-4C77-848C-4851C3EA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AA2-C16C-41C7-9790-C29C4EA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267-B435-4677-A8D9-BC29110E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F98-10D6-4715-835F-B536DACF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F9F-CA9A-4268-A5A9-23FCEDF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059-B18D-4BC3-84A9-8154A15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807-0562-4E75-A177-DA408DEB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7B2-3872-49DC-A0B6-201BD6BF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82D-0C2C-4FF4-A3A9-B8701E5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0A4-0E3D-4648-B992-BCD8514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05B-6475-48CD-8BDC-DBA45D2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D48-97CE-4432-A857-E1853FB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03A52-61E9-4392-BE0B-8B0F4FD321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