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081678"/>
        <c:axId val="1735953"/>
      </c:barChart>
      <c:catAx>
        <c:axId val="56081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5953"/>
        <c:crosses val="autoZero"/>
        <c:auto val="1"/>
        <c:lblAlgn val="ctr"/>
        <c:lblOffset val="100"/>
        <c:noMultiLvlLbl val="0"/>
      </c:catAx>
      <c:valAx>
        <c:axId val="17359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81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A5A0-C224-40FC-9647-48842751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F67-F142-4667-BADC-4454E2FC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9BA5-12D0-4A98-A1B5-54019559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E2DF-5B1E-4708-B59E-D49074C0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F5B-C492-4EDD-8F71-C12CBFB4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8D22-39C3-40E1-8639-F64EC7AA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953-A042-4D43-8155-F9DAC03C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2398-3BB2-4590-871C-8B20EE13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271-284B-44EC-B9F0-55CA5DE2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F9A9-F6CF-4ED2-A386-963E2B85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8A34-56E2-4957-89D0-0641509A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374-83FE-40D8-BA16-577D55D6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3E6C0-4DE4-45C9-BCBD-D13FC1A191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