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13671"/>
        <c:axId val="20915676"/>
      </c:barChart>
      <c:catAx>
        <c:axId val="80713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15676"/>
        <c:crosses val="autoZero"/>
        <c:auto val="1"/>
        <c:lblAlgn val="ctr"/>
        <c:lblOffset val="100"/>
        <c:noMultiLvlLbl val="0"/>
      </c:catAx>
      <c:valAx>
        <c:axId val="20915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13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389-8919-4346-B692-6B06302F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F9F-EACD-4DB7-B0BD-A9B4B234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6A9-C7E1-41F9-91FA-75B924BA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347-5F7E-43C5-9802-FC0F369C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4B3-0835-4892-B67B-5EA8EAA0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416-C557-42A6-BAB5-698A128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5B8-7BCE-4F86-A66B-F4DD85A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F54-90A9-4D09-8904-72718E14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D6F-0C47-457C-88FC-2D373A26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2D3-93EA-4A20-9A9C-ACDD61C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E92-7F1F-4EBE-9674-580516BB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26C-2623-4020-AFD8-53EACB3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9AF50-5809-4DF8-93DE-8663EFAF3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